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8AB91-C5EE-4519-A204-7AC058C9D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B54B2-38E2-4769-9169-37DE76C22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F50BEC-A641-4E8E-BC18-1ECF1D75FD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A1A9BE-1604-4843-9DD0-DA0CD89EB0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F10E27-AF43-4F28-8E99-33E39B4A57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B9C6B7-6B73-4239-BD87-B4F20668FE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FC747F-BE29-4C98-B360-5FD546F33E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17730D-92DE-4275-B9C1-E0DF96C1F2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4A4DE1-011D-4B30-9DCD-CCB792EA7E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1246C7-D96B-40A7-8BAF-2955FC0FA4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366E16-A46C-4F39-BA84-4B782548AC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7138DE-C6E2-42AA-A124-D6331E17B1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6A1FD-2871-49C6-A62C-B201410E5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EF5D7A-735B-4DF6-8315-1D58DC9851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A66017-5B48-459A-893D-6857FD3C8A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ED84FF-5F38-4A8A-8880-A2D88267D0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EB1AB6-175F-4AF0-9FF0-8C6235EDD9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336112-378F-4B3D-A338-F986B443B2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59ECE8-3452-4428-A650-6FA01E58DB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4AE716-8878-4789-9D72-C7545D36E1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94A8CC-941D-43FE-9CA5-83862C87C9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D2618A-D2A0-4BA1-BB3E-F6DEB78754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82A379-625F-416C-BDC0-4FD9BF43EA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3471B-F986-4876-A03E-398BF3C60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0C135B-C90A-4C37-B410-926207D743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649148-EDE8-4E74-A31C-7166AFEEAB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0991A0-F911-42AF-9B33-C4E670EB42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45BC3F-D309-49F5-B605-9D2C9B1A68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ACAC84-5845-4AE2-8EFE-CDDB18E2C7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533F62-9ABD-45EC-83D5-B6B9D2A159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72B67D-4712-4A3D-8293-085D11BCA6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30CFE3-9A14-481F-B8BD-62FB2E2050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5C767B-297E-4623-A82A-4ABB6FFE60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D4B0F3-0C80-4F55-BE6B-55F97C9D6B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53B2D-05DF-49AD-98B2-9CB5DF70F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C6E717-4039-4707-9E34-219CA26104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F76E40-5463-4181-A802-DE890A6BFD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70C43D-5E08-4263-96EB-0E232CF69B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01E1812-8BEA-4748-89BE-559E82BAAEB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8AA000-E298-4FFB-850D-9A9652A815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39095C-3E85-4624-8491-EC131E224D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A1F775-5614-42BF-B86C-240261936D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784547-EFFA-4A54-A860-7D3BDEAF6B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4223BE-E651-449E-AEAA-37D5C5C0FF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B67AA0-DB68-4CA8-B607-ED2CB11F2E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E3BCE-60A1-46B9-BE53-1FAE296D1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0C95A5-53B7-4A59-BCE8-8B0EDCF9E2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30B680-C5DA-4B15-9E75-BAD15ECE8A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E1B34A-8ACE-4475-95EC-8BCB427B6F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21F347-8796-4864-A2DE-0B08381E718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C3C0C97-1E4B-4DF3-9A36-84A7D722698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AF2052A-9C0F-480E-A7F0-FE9CDE6965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7DAA75-AD70-44C2-9C63-4419F7CAA9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C60BD4-6D9D-40E6-9595-9A3766553D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8980AD-17D0-49A7-B143-DC9DFB7722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FCAFED-78A6-4839-B3C7-5759F30AFC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BC994-80C4-44C4-949B-E0117FC7B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78BF7F-441C-4B23-9ABB-42553AEDF7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0C5979-BFAD-42A1-ABC8-AF2E1788CC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B504E9-67D1-4770-863A-7D7F5D23BD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06096C-B406-4808-B3CF-59B8A84F80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8FF01C-EE3C-4874-AA87-324E055D14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0A88FAB-ACDD-4380-BC6D-8F6E65504AB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DC06746-6275-4FDD-BCEC-FF46E6B2C36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6A09CF5-3D85-47A4-93E1-CD7BC92EFCC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0B9FFB-0796-4CAA-BA32-D7C23AE39E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6CFF82-E2E9-4C46-9972-4F2F6E377F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6B278-E326-4521-B328-57B87E51D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3ABCA2-94BA-4726-BAB9-8645BAAD2F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8A3E45-179B-4A95-8353-F2544F47F4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060B59-A279-43E5-AEF7-B2FA3CADB0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5BA208-5DB0-4FD1-A857-6A7C3E0C84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27263D-290F-4681-9134-9C385F7CC4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B1273D-07AF-4612-8587-593A3A3DFD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CD5FFA-40D7-43C9-A765-67FE289387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D0FF825-4125-4129-BC38-B43ECD82A0D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0A09A74-8D33-43DD-BB22-1B153609C8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5950B-9EB2-4777-9A4E-3D855173D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9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9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1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1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1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1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2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651A3-131D-46E0-A0B2-6C2603FC7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2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2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2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2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3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3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C240E-7799-4E5C-9B43-BC4C8A28C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7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3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8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3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3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dt" idx="3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dt" idx="3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61FDC-9910-46D8-A67C-04342B6EC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7D14A-2B94-4E77-90A3-A75193103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9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9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0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0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3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0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dt" idx="3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0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0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1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1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1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1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dt" idx="3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EE4A2-7541-4D45-B508-92C4AE745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6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4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6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4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A936B-43CA-45C1-80EE-1D385C5FA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4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dt" idx="4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dt" idx="4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7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8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8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8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4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8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dt" idx="4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9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9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9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9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9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9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dt" idx="4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28F6A-FD98-412A-969F-922AC5E8B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4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4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4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dt" idx="4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dt" idx="4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4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dt" idx="4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5111D-2A1A-4AFA-B5B0-F070CF88F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dt" idx="4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945AD-DC1D-4013-AB8D-9BC402D17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31C5819-D3B7-4058-97B4-9C0E1BCA9C1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3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sldNum" idx="10"/>
          </p:nvPr>
        </p:nvSpPr>
        <p:spPr/>
        <p:txBody>
          <a:bodyPr/>
          <a:p>
            <a:fld id="{A443A018-695E-40A7-9D28-DF7ECA1776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3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sldNum" idx="10"/>
          </p:nvPr>
        </p:nvSpPr>
        <p:spPr/>
        <p:txBody>
          <a:bodyPr/>
          <a:p>
            <a:fld id="{EF8B6AE2-53B3-441D-8B82-D253974D47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BB6A0-6C1F-46B1-B781-6B65D048B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sldNum" idx="10"/>
          </p:nvPr>
        </p:nvSpPr>
        <p:spPr/>
        <p:txBody>
          <a:bodyPr/>
          <a:p>
            <a:fld id="{ABF42C51-0BD2-4EA8-8686-F1457E59230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sldNum" idx="10"/>
          </p:nvPr>
        </p:nvSpPr>
        <p:spPr/>
        <p:txBody>
          <a:bodyPr/>
          <a:p>
            <a:fld id="{31836E19-6E67-4C34-9244-9D2D37F5475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sldNum" idx="10"/>
          </p:nvPr>
        </p:nvSpPr>
        <p:spPr/>
        <p:txBody>
          <a:bodyPr/>
          <a:p>
            <a:fld id="{99D5939A-E75C-40F1-A7B6-8E395EB6A61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sldNum" idx="10"/>
          </p:nvPr>
        </p:nvSpPr>
        <p:spPr/>
        <p:txBody>
          <a:bodyPr/>
          <a:p>
            <a:fld id="{A95DA504-EEC3-4444-A957-C2F2C5F9E4E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5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sldNum" idx="10"/>
          </p:nvPr>
        </p:nvSpPr>
        <p:spPr/>
        <p:txBody>
          <a:bodyPr/>
          <a:p>
            <a:fld id="{25D6C752-ADE2-4F92-B22D-D11E1CF784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5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sldNum" idx="10"/>
          </p:nvPr>
        </p:nvSpPr>
        <p:spPr/>
        <p:txBody>
          <a:bodyPr/>
          <a:p>
            <a:fld id="{AEC51ED2-7D4B-48F4-82C4-E518D30DF9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5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5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sldNum" idx="10"/>
          </p:nvPr>
        </p:nvSpPr>
        <p:spPr/>
        <p:txBody>
          <a:bodyPr/>
          <a:p>
            <a:fld id="{3BB51BEB-E87E-4AF8-88F8-B0F2DF9446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6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sldNum" idx="10"/>
          </p:nvPr>
        </p:nvSpPr>
        <p:spPr/>
        <p:txBody>
          <a:bodyPr/>
          <a:p>
            <a:fld id="{EC336979-7733-4630-8AF1-7E11A5302F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6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6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6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6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6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7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sldNum" idx="10"/>
          </p:nvPr>
        </p:nvSpPr>
        <p:spPr/>
        <p:txBody>
          <a:bodyPr/>
          <a:p>
            <a:fld id="{3794C9C4-3A6F-4068-863E-C3ABB0B21BA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F944419-D14B-4DD3-891A-7CADD5EFBE8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74300-78F3-463A-BF38-8F98BA921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7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D999BE4-BE5B-40EA-AA0F-4B09BFB41E8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8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153FED0-129D-4EBD-A38D-9B42F4F9E9D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6B2AE36-2760-46C3-A73C-D659E664FE4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8FEF58F-5169-4FED-9C82-6C8C6AB1EAD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EB994D8-C23A-47FA-9855-B09B65CB6AE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8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4B48E1F-CEF1-411C-B8EB-F6C7CEE0C34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9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E5B899C-ED33-4C98-8387-A96307D46B2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9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208173D-B167-4601-A147-B3D4B604282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9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0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ABFBDA5-FA06-4E83-8418-2E601BB0C9D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0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2E06C63-9F5C-4237-9C9D-5F2283646F9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8B84E-8DF2-4062-9C24-01CBE3230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0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0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0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1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1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1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B0CCCCD-D0AD-4F2D-8B48-DC4F7E06C24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E165EB5-FF2B-4073-8187-F516401B079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6FFEB39-1764-45D4-964E-3472CCCD160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08F4AAB-5469-4719-963F-DAF1F0D69F9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4D546DD-C2A7-41D2-9F01-7816DD93670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D49C725-84F5-4514-A5AF-42D917E3E5A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D351AAD-6B0F-472E-8140-EAB8D606061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85429D6-7E57-4378-BA3E-03D2238C546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588AB5F-E970-404F-A09D-C30AE3D61B7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349305B-E609-4011-B20E-6F63D3D9C7D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6BBFC-F7F7-485D-BF9E-8EC63965B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1133E30-9024-4929-880E-9275B77A968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FCC4F52-A92B-4DE5-B3C9-ED79A183D6A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239C2E0-EF19-4B72-9D35-A1F50DC9372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6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6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09B1B-EB80-4950-9718-A7AD61D4A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7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8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8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8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8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9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9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9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9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9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9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DD650-F143-4634-BA72-7540F507A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7B42AC-288A-460E-8651-50B1FFBA32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75C665-001F-43F5-AF26-8566A7F50C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E450C5-4CF0-45FB-9D15-D4236CA3F6A4}"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35B7-D367-4653-AD5F-0326607DFE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6" descr=""/>
          <p:cNvPicPr/>
          <p:nvPr/>
        </p:nvPicPr>
        <p:blipFill>
          <a:blip r:embed="rId2"/>
          <a:stretch/>
        </p:blipFill>
        <p:spPr>
          <a:xfrm>
            <a:off x="68400" y="76320"/>
            <a:ext cx="2268360" cy="761760"/>
          </a:xfrm>
          <a:prstGeom prst="rect">
            <a:avLst/>
          </a:prstGeom>
          <a:ln w="0">
            <a:noFill/>
          </a:ln>
        </p:spPr>
      </p:pic>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38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383"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4"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4F3F-8C58-4339-AA2E-EC091EA7B3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Picture 6" descr=""/>
          <p:cNvPicPr/>
          <p:nvPr/>
        </p:nvPicPr>
        <p:blipFill>
          <a:blip r:embed="rId2"/>
          <a:stretch/>
        </p:blipFill>
        <p:spPr>
          <a:xfrm>
            <a:off x="7620120" y="4878360"/>
            <a:ext cx="5079960" cy="1979640"/>
          </a:xfrm>
          <a:prstGeom prst="rect">
            <a:avLst/>
          </a:prstGeom>
          <a:ln w="0">
            <a:noFill/>
          </a:ln>
        </p:spPr>
      </p:pic>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4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425"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6"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4960-76F1-456D-8E02-D9D314627A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4" name="Picture 6" descr=""/>
          <p:cNvPicPr/>
          <p:nvPr/>
        </p:nvPicPr>
        <p:blipFill>
          <a:blip r:embed="rId3"/>
          <a:stretch/>
        </p:blipFill>
        <p:spPr>
          <a:xfrm>
            <a:off x="7397640" y="4776840"/>
            <a:ext cx="5445360" cy="2120760"/>
          </a:xfrm>
          <a:prstGeom prst="rect">
            <a:avLst/>
          </a:prstGeom>
          <a:ln w="0">
            <a:noFill/>
          </a:ln>
        </p:spPr>
      </p:pic>
      <p:pic>
        <p:nvPicPr>
          <p:cNvPr id="465" name="Picture 7" descr=""/>
          <p:cNvPicPr/>
          <p:nvPr/>
        </p:nvPicPr>
        <p:blipFill>
          <a:blip r:embed="rId4"/>
          <a:stretch/>
        </p:blipFill>
        <p:spPr>
          <a:xfrm>
            <a:off x="334800" y="128520"/>
            <a:ext cx="2156040" cy="766800"/>
          </a:xfrm>
          <a:prstGeom prst="rect">
            <a:avLst/>
          </a:prstGeom>
          <a:ln w="0">
            <a:noFill/>
          </a:ln>
        </p:spPr>
      </p:pic>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46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468"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69"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0F53-890D-4269-9A35-06788BCD2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7" name="Picture 6" descr=""/>
          <p:cNvPicPr/>
          <p:nvPr/>
        </p:nvPicPr>
        <p:blipFill>
          <a:blip r:embed="rId3"/>
          <a:stretch/>
        </p:blipFill>
        <p:spPr>
          <a:xfrm>
            <a:off x="334800" y="128520"/>
            <a:ext cx="2156040" cy="766800"/>
          </a:xfrm>
          <a:prstGeom prst="rect">
            <a:avLst/>
          </a:prstGeom>
          <a:ln w="0">
            <a:noFill/>
          </a:ln>
        </p:spPr>
      </p:pic>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50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510"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11"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7208-56E4-47B8-8F20-BCF029664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49" name="Picture 6" descr=""/>
          <p:cNvPicPr/>
          <p:nvPr/>
        </p:nvPicPr>
        <p:blipFill>
          <a:blip r:embed="rId3"/>
          <a:stretch/>
        </p:blipFill>
        <p:spPr>
          <a:xfrm>
            <a:off x="7397640" y="4776840"/>
            <a:ext cx="5445360" cy="2120760"/>
          </a:xfrm>
          <a:prstGeom prst="rect">
            <a:avLst/>
          </a:prstGeom>
          <a:ln w="0">
            <a:noFill/>
          </a:ln>
        </p:spPr>
      </p:pic>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55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552"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53"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41D8-9538-4BB6-9FE2-9C84D00F1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Picture 6" descr=""/>
          <p:cNvPicPr/>
          <p:nvPr/>
        </p:nvPicPr>
        <p:blipFill>
          <a:blip r:embed="rId2"/>
          <a:stretch/>
        </p:blipFill>
        <p:spPr>
          <a:xfrm>
            <a:off x="144360" y="112680"/>
            <a:ext cx="11854080" cy="6667560"/>
          </a:xfrm>
          <a:prstGeom prst="rect">
            <a:avLst/>
          </a:prstGeom>
          <a:ln w="0">
            <a:noFill/>
          </a:ln>
        </p:spPr>
      </p:pic>
      <p:sp>
        <p:nvSpPr>
          <p:cNvPr id="592"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DF65-C3A8-4751-87F2-B9D5B76DCD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5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595" name="PlaceHolder 3"/>
          <p:cNvSpPr>
            <a:spLocks noGrp="1"/>
          </p:cNvSpPr>
          <p:nvPr>
            <p:ph type="dt" idx="37"/>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Picture 6" descr=""/>
          <p:cNvPicPr/>
          <p:nvPr/>
        </p:nvPicPr>
        <p:blipFill>
          <a:blip r:embed="rId2"/>
          <a:stretch/>
        </p:blipFill>
        <p:spPr>
          <a:xfrm>
            <a:off x="144360" y="112680"/>
            <a:ext cx="11854080" cy="6667560"/>
          </a:xfrm>
          <a:prstGeom prst="rect">
            <a:avLst/>
          </a:prstGeom>
          <a:ln w="0">
            <a:noFill/>
          </a:ln>
        </p:spPr>
      </p:pic>
      <p:sp>
        <p:nvSpPr>
          <p:cNvPr id="633"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4BDB-0649-4CAA-A978-829BAC69E7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63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636" name="PlaceHolder 3"/>
          <p:cNvSpPr>
            <a:spLocks noGrp="1"/>
          </p:cNvSpPr>
          <p:nvPr>
            <p:ph type="dt" idx="38"/>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3" name="Picture 6" descr=""/>
          <p:cNvPicPr/>
          <p:nvPr/>
        </p:nvPicPr>
        <p:blipFill>
          <a:blip r:embed="rId2"/>
          <a:stretch/>
        </p:blipFill>
        <p:spPr>
          <a:xfrm>
            <a:off x="144360" y="112680"/>
            <a:ext cx="11854080" cy="6667560"/>
          </a:xfrm>
          <a:prstGeom prst="rect">
            <a:avLst/>
          </a:prstGeom>
          <a:ln w="0">
            <a:noFill/>
          </a:ln>
        </p:spPr>
      </p:pic>
      <p:sp>
        <p:nvSpPr>
          <p:cNvPr id="674"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49F38-14EF-4148-BEFC-E936C204CD6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67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677" name="PlaceHolder 3"/>
          <p:cNvSpPr>
            <a:spLocks noGrp="1"/>
          </p:cNvSpPr>
          <p:nvPr>
            <p:ph type="dt" idx="39"/>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4" name="Picture 6" descr=""/>
          <p:cNvPicPr/>
          <p:nvPr/>
        </p:nvPicPr>
        <p:blipFill>
          <a:blip r:embed="rId2"/>
          <a:stretch/>
        </p:blipFill>
        <p:spPr>
          <a:xfrm>
            <a:off x="144360" y="112680"/>
            <a:ext cx="11854080" cy="6667560"/>
          </a:xfrm>
          <a:prstGeom prst="rect">
            <a:avLst/>
          </a:prstGeom>
          <a:ln w="0">
            <a:noFill/>
          </a:ln>
        </p:spPr>
      </p:pic>
      <p:sp>
        <p:nvSpPr>
          <p:cNvPr id="715"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297A-EBC8-4C80-9797-607B0EFBB5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7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718" name="PlaceHolder 3"/>
          <p:cNvSpPr>
            <a:spLocks noGrp="1"/>
          </p:cNvSpPr>
          <p:nvPr>
            <p:ph type="dt" idx="40"/>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Picture 6" descr=""/>
          <p:cNvPicPr/>
          <p:nvPr/>
        </p:nvPicPr>
        <p:blipFill>
          <a:blip r:embed="rId2"/>
          <a:stretch/>
        </p:blipFill>
        <p:spPr>
          <a:xfrm>
            <a:off x="144360" y="112680"/>
            <a:ext cx="11854080" cy="6667560"/>
          </a:xfrm>
          <a:prstGeom prst="rect">
            <a:avLst/>
          </a:prstGeom>
          <a:ln w="0">
            <a:noFill/>
          </a:ln>
        </p:spPr>
      </p:pic>
      <p:sp>
        <p:nvSpPr>
          <p:cNvPr id="756"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B685-503C-451C-A9F9-36E85D7A6C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75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759" name="PlaceHolder 3"/>
          <p:cNvSpPr>
            <a:spLocks noGrp="1"/>
          </p:cNvSpPr>
          <p:nvPr>
            <p:ph type="dt" idx="41"/>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17640" y="-9360"/>
            <a:ext cx="12209760" cy="6867360"/>
          </a:xfrm>
          <a:prstGeom prst="rect">
            <a:avLst/>
          </a:prstGeom>
          <a:ln w="0">
            <a:noFill/>
          </a:ln>
        </p:spPr>
      </p:pic>
      <p:pic>
        <p:nvPicPr>
          <p:cNvPr id="42" name="Picture 7" descr=""/>
          <p:cNvPicPr/>
          <p:nvPr/>
        </p:nvPicPr>
        <p:blipFill>
          <a:blip r:embed="rId3"/>
          <a:stretch/>
        </p:blipFill>
        <p:spPr>
          <a:xfrm>
            <a:off x="-17640" y="-9360"/>
            <a:ext cx="2899080" cy="1536480"/>
          </a:xfrm>
          <a:prstGeom prst="rect">
            <a:avLst/>
          </a:prstGeom>
          <a:ln w="0">
            <a:noFill/>
          </a:ln>
        </p:spPr>
      </p:pic>
      <p:sp>
        <p:nvSpPr>
          <p:cNvPr id="43" name="TextBox 8"/>
          <p:cNvSpPr/>
          <p:nvPr/>
        </p:nvSpPr>
        <p:spPr>
          <a:xfrm>
            <a:off x="2598840" y="401760"/>
            <a:ext cx="2419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lexon RR"/>
              </a:rPr>
              <a:t>Universitas Muhammadiyah Sidoarjo</a:t>
            </a:r>
            <a:endParaRPr b="0" lang="en-US" sz="1600" spc="-1" strike="noStrike">
              <a:solidFill>
                <a:srgbClr val="000000"/>
              </a:solidFill>
              <a:latin typeface="Calibri"/>
            </a:endParaRPr>
          </a:p>
        </p:txBody>
      </p:sp>
      <p:sp>
        <p:nvSpPr>
          <p:cNvPr id="44" name="TextBox 9"/>
          <p:cNvSpPr/>
          <p:nvPr/>
        </p:nvSpPr>
        <p:spPr>
          <a:xfrm>
            <a:off x="10053720" y="6122880"/>
            <a:ext cx="1944720" cy="368280"/>
          </a:xfrm>
          <a:prstGeom prst="rect">
            <a:avLst/>
          </a:prstGeom>
          <a:solidFill>
            <a:srgbClr val="1b4685"/>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47" name="PlaceHolder 3"/>
          <p:cNvSpPr>
            <a:spLocks noGrp="1"/>
          </p:cNvSpPr>
          <p:nvPr>
            <p:ph type="dt" idx="4"/>
          </p:nvPr>
        </p:nvSpPr>
        <p:spPr>
          <a:xfrm>
            <a:off x="766800" y="565308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4038480" y="565308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6"/>
          </p:nvPr>
        </p:nvSpPr>
        <p:spPr>
          <a:xfrm>
            <a:off x="8682120" y="565308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FF21-75CE-4B63-B0AC-958C0BB1C6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144360" y="112680"/>
            <a:ext cx="11854080" cy="6667560"/>
          </a:xfrm>
          <a:prstGeom prst="rect">
            <a:avLst/>
          </a:prstGeom>
          <a:ln w="0">
            <a:noFill/>
          </a:ln>
        </p:spPr>
      </p:pic>
      <p:sp>
        <p:nvSpPr>
          <p:cNvPr id="797"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AEE6-3FA8-4E7E-ABB4-FE91BB6F4E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7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800" name="PlaceHolder 3"/>
          <p:cNvSpPr>
            <a:spLocks noGrp="1"/>
          </p:cNvSpPr>
          <p:nvPr>
            <p:ph type="dt" idx="42"/>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
          <p:cNvPicPr/>
          <p:nvPr/>
        </p:nvPicPr>
        <p:blipFill>
          <a:blip r:embed="rId2"/>
          <a:stretch/>
        </p:blipFill>
        <p:spPr>
          <a:xfrm>
            <a:off x="144360" y="112680"/>
            <a:ext cx="11854080" cy="6667560"/>
          </a:xfrm>
          <a:prstGeom prst="rect">
            <a:avLst/>
          </a:prstGeom>
          <a:ln w="0">
            <a:noFill/>
          </a:ln>
        </p:spPr>
      </p:pic>
      <p:sp>
        <p:nvSpPr>
          <p:cNvPr id="87"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D2CA9-2681-4D59-A1C6-FB9BCA4789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90" name="PlaceHolder 3"/>
          <p:cNvSpPr>
            <a:spLocks noGrp="1"/>
          </p:cNvSpPr>
          <p:nvPr>
            <p:ph type="dt" idx="7"/>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4024440" y="596268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
          <p:cNvPicPr/>
          <p:nvPr/>
        </p:nvPicPr>
        <p:blipFill>
          <a:blip r:embed="rId2"/>
          <a:stretch/>
        </p:blipFill>
        <p:spPr>
          <a:xfrm>
            <a:off x="0" y="0"/>
            <a:ext cx="12192120" cy="6858000"/>
          </a:xfrm>
          <a:prstGeom prst="rect">
            <a:avLst/>
          </a:prstGeom>
          <a:ln w="0">
            <a:noFill/>
          </a:ln>
        </p:spPr>
      </p:pic>
      <p:pic>
        <p:nvPicPr>
          <p:cNvPr id="129" name="Picture 7" descr=""/>
          <p:cNvPicPr/>
          <p:nvPr/>
        </p:nvPicPr>
        <p:blipFill>
          <a:blip r:embed="rId3"/>
          <a:stretch/>
        </p:blipFill>
        <p:spPr>
          <a:xfrm>
            <a:off x="-17640" y="-9360"/>
            <a:ext cx="2899080" cy="1536480"/>
          </a:xfrm>
          <a:prstGeom prst="rect">
            <a:avLst/>
          </a:prstGeom>
          <a:ln w="0">
            <a:noFill/>
          </a:ln>
        </p:spPr>
      </p:pic>
      <p:sp>
        <p:nvSpPr>
          <p:cNvPr id="130" name="TextBox 8"/>
          <p:cNvSpPr/>
          <p:nvPr/>
        </p:nvSpPr>
        <p:spPr>
          <a:xfrm>
            <a:off x="2527200" y="349200"/>
            <a:ext cx="242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lexon RR"/>
              </a:rPr>
              <a:t>Universitas Muhammadiyah Sidoarjo</a:t>
            </a:r>
            <a:endParaRPr b="0" lang="en-US" sz="1800" spc="-1" strike="noStrike">
              <a:solidFill>
                <a:srgbClr val="000000"/>
              </a:solidFill>
              <a:latin typeface="Calibri"/>
            </a:endParaRPr>
          </a:p>
        </p:txBody>
      </p:sp>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1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133" name="PlaceHolder 3"/>
          <p:cNvSpPr>
            <a:spLocks noGrp="1"/>
          </p:cNvSpPr>
          <p:nvPr>
            <p:ph type="dt" idx="9"/>
          </p:nvPr>
        </p:nvSpPr>
        <p:spPr>
          <a:xfrm>
            <a:off x="837720" y="6356520"/>
            <a:ext cx="1211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sldNum" idx="10"/>
          </p:nvPr>
        </p:nvSpPr>
        <p:spPr>
          <a:xfrm>
            <a:off x="2158560" y="6356520"/>
            <a:ext cx="5050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843EB-5BD3-4686-A206-85A6A837A9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6" descr=""/>
          <p:cNvPicPr/>
          <p:nvPr/>
        </p:nvPicPr>
        <p:blipFill>
          <a:blip r:embed="rId2"/>
          <a:stretch/>
        </p:blipFill>
        <p:spPr>
          <a:xfrm>
            <a:off x="-17640" y="-9360"/>
            <a:ext cx="12209760" cy="6867360"/>
          </a:xfrm>
          <a:prstGeom prst="rect">
            <a:avLst/>
          </a:prstGeom>
          <a:ln w="0">
            <a:noFill/>
          </a:ln>
        </p:spPr>
      </p:pic>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17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174" name="PlaceHolder 3"/>
          <p:cNvSpPr>
            <a:spLocks noGrp="1"/>
          </p:cNvSpPr>
          <p:nvPr>
            <p:ph type="dt" idx="1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5" name="PlaceHolder 4"/>
          <p:cNvSpPr>
            <a:spLocks noGrp="1"/>
          </p:cNvSpPr>
          <p:nvPr>
            <p:ph type="ftr" idx="1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5"/>
          <p:cNvSpPr>
            <a:spLocks noGrp="1"/>
          </p:cNvSpPr>
          <p:nvPr>
            <p:ph type="sldNum" idx="1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FA95-4937-4DCF-8F74-2CF40ABEF7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6" descr=""/>
          <p:cNvPicPr/>
          <p:nvPr/>
        </p:nvPicPr>
        <p:blipFill>
          <a:blip r:embed="rId2"/>
          <a:stretch/>
        </p:blipFill>
        <p:spPr>
          <a:xfrm>
            <a:off x="3240" y="0"/>
            <a:ext cx="12191760" cy="6858000"/>
          </a:xfrm>
          <a:prstGeom prst="rect">
            <a:avLst/>
          </a:prstGeom>
          <a:ln w="0">
            <a:noFill/>
          </a:ln>
        </p:spPr>
      </p:pic>
      <p:sp>
        <p:nvSpPr>
          <p:cNvPr id="2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21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216" name="PlaceHolder 3"/>
          <p:cNvSpPr>
            <a:spLocks noGrp="1"/>
          </p:cNvSpPr>
          <p:nvPr>
            <p:ph type="dt" idx="1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PlaceHolder 5"/>
          <p:cNvSpPr>
            <a:spLocks noGrp="1"/>
          </p:cNvSpPr>
          <p:nvPr>
            <p:ph type="sldNum" idx="16"/>
          </p:nvPr>
        </p:nvSpPr>
        <p:spPr>
          <a:xfrm>
            <a:off x="7238880" y="643248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1865-3CB5-4269-BDFD-389C330612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6" descr=""/>
          <p:cNvPicPr/>
          <p:nvPr/>
        </p:nvPicPr>
        <p:blipFill>
          <a:blip r:embed="rId2"/>
          <a:stretch/>
        </p:blipFill>
        <p:spPr>
          <a:xfrm>
            <a:off x="144360" y="112680"/>
            <a:ext cx="11854080" cy="6667560"/>
          </a:xfrm>
          <a:prstGeom prst="rect">
            <a:avLst/>
          </a:prstGeom>
          <a:ln w="0">
            <a:noFill/>
          </a:ln>
        </p:spPr>
      </p:pic>
      <p:sp>
        <p:nvSpPr>
          <p:cNvPr id="256"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F0A7-DCAF-4D81-BC2C-1A7661E9FC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25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259" name="PlaceHolder 3"/>
          <p:cNvSpPr>
            <a:spLocks noGrp="1"/>
          </p:cNvSpPr>
          <p:nvPr>
            <p:ph type="dt" idx="17"/>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6" descr=""/>
          <p:cNvPicPr/>
          <p:nvPr/>
        </p:nvPicPr>
        <p:blipFill>
          <a:blip r:embed="rId2"/>
          <a:stretch/>
        </p:blipFill>
        <p:spPr>
          <a:xfrm>
            <a:off x="144360" y="112680"/>
            <a:ext cx="11854080" cy="6667560"/>
          </a:xfrm>
          <a:prstGeom prst="rect">
            <a:avLst/>
          </a:prstGeom>
          <a:ln w="0">
            <a:noFill/>
          </a:ln>
        </p:spPr>
      </p:pic>
      <p:sp>
        <p:nvSpPr>
          <p:cNvPr id="297"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4C4E-76A8-46D4-B4DD-CEDCBB4333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2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300" name="PlaceHolder 3"/>
          <p:cNvSpPr>
            <a:spLocks noGrp="1"/>
          </p:cNvSpPr>
          <p:nvPr>
            <p:ph type="dt" idx="18"/>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6" descr=""/>
          <p:cNvPicPr/>
          <p:nvPr/>
        </p:nvPicPr>
        <p:blipFill>
          <a:blip r:embed="rId2"/>
          <a:stretch/>
        </p:blipFill>
        <p:spPr>
          <a:xfrm>
            <a:off x="7620120" y="4878360"/>
            <a:ext cx="5079960" cy="1979640"/>
          </a:xfrm>
          <a:prstGeom prst="rect">
            <a:avLst/>
          </a:prstGeom>
          <a:ln w="0">
            <a:noFill/>
          </a:ln>
        </p:spPr>
      </p:pic>
      <p:pic>
        <p:nvPicPr>
          <p:cNvPr id="338" name="Picture 7" descr=""/>
          <p:cNvPicPr/>
          <p:nvPr/>
        </p:nvPicPr>
        <p:blipFill>
          <a:blip r:embed="rId3"/>
          <a:stretch/>
        </p:blipFill>
        <p:spPr>
          <a:xfrm>
            <a:off x="68400" y="76320"/>
            <a:ext cx="2268360" cy="761760"/>
          </a:xfrm>
          <a:prstGeom prst="rect">
            <a:avLst/>
          </a:prstGeom>
          <a:ln w="0">
            <a:noFill/>
          </a:ln>
        </p:spPr>
      </p:pic>
      <p:sp>
        <p:nvSpPr>
          <p:cNvPr id="3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3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341"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2"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EADF-C37B-432C-A4B1-3BF0B09B82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1712520"/>
            <a:ext cx="12192120" cy="1454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lexon RR"/>
              </a:rPr>
              <a:t>UJIAN TESIS</a:t>
            </a:r>
            <a:br>
              <a:rPr sz="3000"/>
            </a:br>
            <a:r>
              <a:rPr b="0" lang="en-GB" sz="3000" spc="-1" strike="noStrike">
                <a:solidFill>
                  <a:srgbClr val="ffffff"/>
                </a:solidFill>
                <a:latin typeface="Alexon RR"/>
              </a:rPr>
              <a:t>RENCANA PENGEMBANGAN KURIKULUM PESANTREN DIGITAL MUHAMMADIYAH AT-TANWIR KABUPATEN PASURUAN</a:t>
            </a:r>
            <a:endParaRPr b="0" lang="en-US" sz="3000" spc="-1" strike="noStrike">
              <a:solidFill>
                <a:srgbClr val="000000"/>
              </a:solidFill>
              <a:latin typeface="Alexon RR"/>
            </a:endParaRPr>
          </a:p>
        </p:txBody>
      </p:sp>
      <p:sp>
        <p:nvSpPr>
          <p:cNvPr id="838" name="PlaceHolder 2"/>
          <p:cNvSpPr>
            <a:spLocks noGrp="1"/>
          </p:cNvSpPr>
          <p:nvPr>
            <p:ph type="subTitle"/>
          </p:nvPr>
        </p:nvSpPr>
        <p:spPr>
          <a:xfrm>
            <a:off x="2777760" y="3551040"/>
            <a:ext cx="6815160" cy="185076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lexon RR"/>
              </a:rPr>
              <a:t>NAMA : ASHADI</a:t>
            </a:r>
            <a:endParaRPr b="0" lang="en-US" sz="2400" spc="-1" strike="noStrike">
              <a:solidFill>
                <a:srgbClr val="000000"/>
              </a:solidFill>
              <a:latin typeface="Alexon RR"/>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lexon RR"/>
              </a:rPr>
              <a:t>NIM : 238610800084</a:t>
            </a:r>
            <a:endParaRPr b="0" lang="en-US" sz="2400" spc="-1" strike="noStrike">
              <a:solidFill>
                <a:srgbClr val="000000"/>
              </a:solidFill>
              <a:latin typeface="Alexon RR"/>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lexon RR"/>
              </a:rPr>
              <a:t>Pembimbing : Dr. Nurdyansyah, M.Pd</a:t>
            </a:r>
            <a:endParaRPr b="0" lang="en-US" sz="2400" spc="-1" strike="noStrike">
              <a:solidFill>
                <a:srgbClr val="000000"/>
              </a:solidFill>
              <a:latin typeface="Alexon RR"/>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lexon RR"/>
              </a:rPr>
              <a:t>Penguji : Dr. Imam Fauzi, Lc. M.Pd</a:t>
            </a:r>
            <a:endParaRPr b="0" lang="en-US" sz="2400" spc="-1" strike="noStrike">
              <a:solidFill>
                <a:srgbClr val="000000"/>
              </a:solidFill>
              <a:latin typeface="Alexon RR"/>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66680" y="112320"/>
            <a:ext cx="11831760" cy="104292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lexon RR"/>
              </a:rPr>
              <a:t>VISI, MISI PESANTREN DIGITAL MUHAMMADIYAH AT TANWIR </a:t>
            </a:r>
            <a:endParaRPr b="0" lang="en-US" sz="4000" spc="-1" strike="noStrike">
              <a:solidFill>
                <a:srgbClr val="000000"/>
              </a:solidFill>
              <a:latin typeface="Alexon RR"/>
            </a:endParaRPr>
          </a:p>
        </p:txBody>
      </p:sp>
      <p:sp>
        <p:nvSpPr>
          <p:cNvPr id="858" name=""/>
          <p:cNvSpPr txBox="1"/>
          <p:nvPr/>
        </p:nvSpPr>
        <p:spPr>
          <a:xfrm>
            <a:off x="166680" y="1238040"/>
            <a:ext cx="11831760" cy="5089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lexon RR"/>
              </a:rPr>
              <a:t>VISI :</a:t>
            </a:r>
            <a:endParaRPr b="0" lang="en-US" sz="2500" spc="-1" strike="noStrike">
              <a:solidFill>
                <a:srgbClr val="000000"/>
              </a:solidFill>
              <a:latin typeface="Alexon RR"/>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lexon RR"/>
              </a:rPr>
              <a:t>Mencetak kader ulama’, intelektual, organisatoris, entrepreneur yg rohmatan lil álamin.</a:t>
            </a:r>
            <a:endParaRPr b="0" lang="en-US" sz="2500" spc="-1" strike="noStrike">
              <a:solidFill>
                <a:srgbClr val="000000"/>
              </a:solidFill>
              <a:latin typeface="Alexon RR"/>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lexon RR"/>
              </a:rPr>
              <a:t>MISI :</a:t>
            </a:r>
            <a:endParaRPr b="0" lang="en-US" sz="2500" spc="-1" strike="noStrike">
              <a:solidFill>
                <a:srgbClr val="000000"/>
              </a:solidFill>
              <a:latin typeface="Alexon RR"/>
            </a:endParaRPr>
          </a:p>
          <a:p>
            <a:pPr marL="228600" indent="-22860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lexon RR"/>
              </a:rPr>
              <a:t>Memadukan kurikulum pesantren , digital, sekolah ( Dinas ), dan Muhammadiyah.</a:t>
            </a:r>
            <a:endParaRPr b="0" lang="en-US" sz="2500" spc="-1" strike="noStrike">
              <a:solidFill>
                <a:srgbClr val="000000"/>
              </a:solidFill>
              <a:latin typeface="Alexon RR"/>
            </a:endParaRPr>
          </a:p>
          <a:p>
            <a:pPr marL="228600" indent="-22860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lexon RR"/>
              </a:rPr>
              <a:t>Memperkuat karakter dan jiwa perjuangan santri.</a:t>
            </a:r>
            <a:endParaRPr b="0" lang="en-US" sz="2500" spc="-1" strike="noStrike">
              <a:solidFill>
                <a:srgbClr val="000000"/>
              </a:solidFill>
              <a:latin typeface="Alexon RR"/>
            </a:endParaRPr>
          </a:p>
          <a:p>
            <a:pPr marL="228600" indent="-22860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lexon RR"/>
              </a:rPr>
              <a:t>Mengembangkan model pembelajaran pesantren berbasis digital.</a:t>
            </a:r>
            <a:endParaRPr b="0" lang="en-US" sz="25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166680" y="112320"/>
            <a:ext cx="11831760" cy="104292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lexon RR"/>
              </a:rPr>
              <a:t>	</a:t>
            </a:r>
            <a:r>
              <a:rPr b="0" lang="en-GB" sz="4400" spc="-1" strike="noStrike">
                <a:solidFill>
                  <a:srgbClr val="ffffff"/>
                </a:solidFill>
                <a:latin typeface="Alexon RR"/>
              </a:rPr>
              <a:t>TUJUAN PESANTREN DIGITAL</a:t>
            </a:r>
            <a:endParaRPr b="0" lang="en-US" sz="4400" spc="-1" strike="noStrike">
              <a:solidFill>
                <a:srgbClr val="000000"/>
              </a:solidFill>
              <a:latin typeface="Alexon RR"/>
            </a:endParaRPr>
          </a:p>
        </p:txBody>
      </p:sp>
      <p:sp>
        <p:nvSpPr>
          <p:cNvPr id="860" name=""/>
          <p:cNvSpPr txBox="1"/>
          <p:nvPr/>
        </p:nvSpPr>
        <p:spPr>
          <a:xfrm>
            <a:off x="166680" y="1238040"/>
            <a:ext cx="11831760" cy="5089320"/>
          </a:xfrm>
          <a:prstGeom prst="rect">
            <a:avLst/>
          </a:prstGeom>
          <a:noFill/>
          <a:ln w="0">
            <a:noFill/>
          </a:ln>
        </p:spPr>
        <p:txBody>
          <a:bodyPr anchor="t">
            <a:normAutofit/>
          </a:bodyPr>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Menyiapkan santri sbg individu yg mempunyai kompetensi islami dan mampu berdakwah di media nyata maupun digital.</a:t>
            </a:r>
            <a:endParaRPr b="0" lang="en-US" sz="2800" spc="-1" strike="noStrike">
              <a:solidFill>
                <a:srgbClr val="000000"/>
              </a:solidFill>
              <a:latin typeface="Alexon RR"/>
            </a:endParaRPr>
          </a:p>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Mampu mencetak santri yg memiliki jiwa social yg tinggi.</a:t>
            </a:r>
            <a:endParaRPr b="0" lang="en-US" sz="2800" spc="-1" strike="noStrike">
              <a:solidFill>
                <a:srgbClr val="000000"/>
              </a:solidFill>
              <a:latin typeface="Alexon RR"/>
            </a:endParaRPr>
          </a:p>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Mampu mengemban dakwah Muhammadiyah yg berkemajuan untuk ummat</a:t>
            </a:r>
            <a:endParaRPr b="0" lang="en-US" sz="2800" spc="-1" strike="noStrike">
              <a:solidFill>
                <a:srgbClr val="000000"/>
              </a:solidFill>
              <a:latin typeface="Alexon RR"/>
            </a:endParaRPr>
          </a:p>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Mampu menjadi kader-kader ulama’yg intelektual , berorganisasi, dan berjiwa entrepreneur. </a:t>
            </a:r>
            <a:endParaRPr b="0" lang="en-US" sz="28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66680" y="112320"/>
            <a:ext cx="11831760" cy="104292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lexon RR"/>
              </a:rPr>
              <a:t>TARGET OUTPUT SANTRI</a:t>
            </a:r>
            <a:endParaRPr b="0" lang="en-US" sz="4400" spc="-1" strike="noStrike">
              <a:solidFill>
                <a:srgbClr val="000000"/>
              </a:solidFill>
              <a:latin typeface="Alexon RR"/>
            </a:endParaRPr>
          </a:p>
        </p:txBody>
      </p:sp>
      <p:sp>
        <p:nvSpPr>
          <p:cNvPr id="862" name=""/>
          <p:cNvSpPr txBox="1"/>
          <p:nvPr/>
        </p:nvSpPr>
        <p:spPr>
          <a:xfrm>
            <a:off x="166680" y="1238040"/>
            <a:ext cx="11831760" cy="5089320"/>
          </a:xfrm>
          <a:prstGeom prst="rect">
            <a:avLst/>
          </a:prstGeom>
          <a:noFill/>
          <a:ln w="0">
            <a:noFill/>
          </a:ln>
        </p:spPr>
        <p:txBody>
          <a:bodyPr anchor="t">
            <a:normAutofit/>
          </a:bodyPr>
          <a:p>
            <a:pPr marL="514440" indent="-514440">
              <a:lnSpc>
                <a:spcPct val="90000"/>
              </a:lnSpc>
              <a:spcBef>
                <a:spcPts val="1001"/>
              </a:spcBef>
              <a:buClr>
                <a:srgbClr val="262626"/>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62626"/>
                </a:solidFill>
                <a:latin typeface="Alexon RR"/>
              </a:rPr>
              <a:t>SANTRI MEMILIKI KARAKTER YG RELIGIUS SBG FONDASI AWAL DLM BERDAKWAH DI MASYARAKAT.</a:t>
            </a:r>
            <a:endParaRPr b="0" lang="en-US" sz="2500" spc="-1" strike="noStrike">
              <a:solidFill>
                <a:srgbClr val="000000"/>
              </a:solidFill>
              <a:latin typeface="Alexon RR"/>
            </a:endParaRPr>
          </a:p>
          <a:p>
            <a:pPr marL="514440" indent="-514440">
              <a:lnSpc>
                <a:spcPct val="90000"/>
              </a:lnSpc>
              <a:spcBef>
                <a:spcPts val="1001"/>
              </a:spcBef>
              <a:buClr>
                <a:srgbClr val="262626"/>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62626"/>
                </a:solidFill>
                <a:latin typeface="Alexon RR"/>
              </a:rPr>
              <a:t>KADER YG MILITAN DG DI BEKALI HAFALAN AL QURAN MINIMAL 3 JUZ DAN 100 HADITS PILIHAN.</a:t>
            </a:r>
            <a:endParaRPr b="0" lang="en-US" sz="2500" spc="-1" strike="noStrike">
              <a:solidFill>
                <a:srgbClr val="000000"/>
              </a:solidFill>
              <a:latin typeface="Alexon RR"/>
            </a:endParaRPr>
          </a:p>
          <a:p>
            <a:pPr marL="514440" indent="-514440">
              <a:lnSpc>
                <a:spcPct val="90000"/>
              </a:lnSpc>
              <a:spcBef>
                <a:spcPts val="1001"/>
              </a:spcBef>
              <a:buClr>
                <a:srgbClr val="262626"/>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62626"/>
                </a:solidFill>
                <a:latin typeface="Alexon RR"/>
              </a:rPr>
              <a:t>MENCETAK KADER DA’I YG MILITAN DG DI BEKALI ILMU2 DINIYAH DAN KEMAMPUAN BAHASA ARAB.</a:t>
            </a:r>
            <a:endParaRPr b="0" lang="en-US" sz="2500" spc="-1" strike="noStrike">
              <a:solidFill>
                <a:srgbClr val="000000"/>
              </a:solidFill>
              <a:latin typeface="Alexon RR"/>
            </a:endParaRPr>
          </a:p>
          <a:p>
            <a:pPr marL="514440" indent="-514440">
              <a:lnSpc>
                <a:spcPct val="90000"/>
              </a:lnSpc>
              <a:spcBef>
                <a:spcPts val="1001"/>
              </a:spcBef>
              <a:buClr>
                <a:srgbClr val="262626"/>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62626"/>
                </a:solidFill>
                <a:latin typeface="Alexon RR"/>
              </a:rPr>
              <a:t>MENCETAK KADER ATAU DA’I YG MAMPU BERDAKWAH SECARA LANGSUNG MAUPUN MELALUI MEDIA DI GITAL.</a:t>
            </a:r>
            <a:endParaRPr b="0" lang="en-US" sz="2500" spc="-1" strike="noStrike">
              <a:solidFill>
                <a:srgbClr val="000000"/>
              </a:solidFill>
              <a:latin typeface="Alexon RR"/>
            </a:endParaRPr>
          </a:p>
          <a:p>
            <a:pPr marL="514440" indent="-514440">
              <a:lnSpc>
                <a:spcPct val="90000"/>
              </a:lnSpc>
              <a:spcBef>
                <a:spcPts val="1001"/>
              </a:spcBef>
              <a:buClr>
                <a:srgbClr val="262626"/>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62626"/>
                </a:solidFill>
                <a:latin typeface="Alexon RR"/>
              </a:rPr>
              <a:t>MENCETAK KADER ATAU DA’I YG MEM[PUNYAI KETRAMPILAN / LIFE SKILL DI DUNIA ENTREPRENEURSHIP BAIK SCR. ONLINE MAUPUN OFFLINE.</a:t>
            </a:r>
            <a:endParaRPr b="0" lang="en-US" sz="25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66680" y="112320"/>
            <a:ext cx="11831760" cy="1042920"/>
          </a:xfrm>
          <a:prstGeom prst="rect">
            <a:avLst/>
          </a:prstGeom>
          <a:solidFill>
            <a:srgbClr val="1b4685"/>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4400" spc="-1" strike="noStrike">
              <a:solidFill>
                <a:srgbClr val="ffffff"/>
              </a:solidFill>
              <a:latin typeface="Alexon RR"/>
            </a:endParaRPr>
          </a:p>
        </p:txBody>
      </p:sp>
      <p:sp>
        <p:nvSpPr>
          <p:cNvPr id="864" name=""/>
          <p:cNvSpPr txBox="1"/>
          <p:nvPr/>
        </p:nvSpPr>
        <p:spPr>
          <a:xfrm>
            <a:off x="166680" y="3236760"/>
            <a:ext cx="11831760" cy="309096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lexon RR"/>
              </a:rPr>
              <a:t>TERIMA KASIH</a:t>
            </a:r>
            <a:endParaRPr b="0" lang="en-US" sz="50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66680" y="112320"/>
            <a:ext cx="11831760" cy="104292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lexon RR"/>
              </a:rPr>
              <a:t>PESANTREN DIGITAL MUHAMMADIYAH AT-TANWIR</a:t>
            </a:r>
            <a:endParaRPr b="0" lang="en-US" sz="2800" spc="-1" strike="noStrike">
              <a:solidFill>
                <a:srgbClr val="000000"/>
              </a:solidFill>
              <a:latin typeface="Alexon RR"/>
            </a:endParaRPr>
          </a:p>
        </p:txBody>
      </p:sp>
      <p:sp>
        <p:nvSpPr>
          <p:cNvPr id="840" name=""/>
          <p:cNvSpPr txBox="1"/>
          <p:nvPr/>
        </p:nvSpPr>
        <p:spPr>
          <a:xfrm>
            <a:off x="166680" y="1238040"/>
            <a:ext cx="11831760" cy="5089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lexon RR"/>
              </a:rPr>
              <a:t>PESANTREN INI DI BAWAH NAUNGAN LEMBAGA PENGEMBANGAN PESANTREN MUHAMMADIYAH ( LPPM ) PDM. KAB. PASURUAN . YANG DI DIRIKAN PADA TANGGAL 22 OKTOBER 2021.</a:t>
            </a:r>
            <a:endParaRPr b="0" lang="en-US" sz="2000" spc="-1" strike="noStrike">
              <a:solidFill>
                <a:srgbClr val="000000"/>
              </a:solidFill>
              <a:latin typeface="Alexon RR"/>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lexon RR"/>
              </a:rPr>
              <a:t>PESANTREN DIGITAL MUHAMMADIYAH AT TANWIR ADALAH PESANTREN YANG DIDIRIKAN SEBAGAI IMPLEMENTASI MUHAMMADIYAH BERKEMAJUAN DALAM MENGHADAPI ERA DIGITAL, DENGAN KONSEP MEDIA DIGITAL YAITU SEBUAH ALAT DAN KONTEN ATAU ISI DARI PESANTREN DIGITAL DG PEMBELAJARAN YG BERBASIS PESANTREN.</a:t>
            </a:r>
            <a:endParaRPr b="0" lang="en-US" sz="2000" spc="-1" strike="noStrike">
              <a:solidFill>
                <a:srgbClr val="000000"/>
              </a:solidFill>
              <a:latin typeface="Alexon RR"/>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166680" y="112320"/>
            <a:ext cx="11831760" cy="104292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lexon RR"/>
              </a:rPr>
              <a:t>DASAR HUKUM :</a:t>
            </a:r>
            <a:endParaRPr b="0" lang="en-US" sz="3600" spc="-1" strike="noStrike">
              <a:solidFill>
                <a:srgbClr val="000000"/>
              </a:solidFill>
              <a:latin typeface="Alexon RR"/>
            </a:endParaRPr>
          </a:p>
        </p:txBody>
      </p:sp>
      <p:sp>
        <p:nvSpPr>
          <p:cNvPr id="842" name=""/>
          <p:cNvSpPr txBox="1"/>
          <p:nvPr/>
        </p:nvSpPr>
        <p:spPr>
          <a:xfrm>
            <a:off x="166680" y="1379520"/>
            <a:ext cx="11831760" cy="4743360"/>
          </a:xfrm>
          <a:prstGeom prst="rect">
            <a:avLst/>
          </a:prstGeom>
          <a:noFill/>
          <a:ln w="0">
            <a:noFill/>
          </a:ln>
        </p:spPr>
        <p:txBody>
          <a:bodyPr anchor="t">
            <a:normAutofit/>
          </a:bodyPr>
          <a:p>
            <a:pPr marL="457200" indent="-45720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Undang – undang tentang Sistem Pendidikan Nasional Nomor 20 Tahun 2003</a:t>
            </a:r>
            <a:endParaRPr b="0" lang="en-US" sz="2800" spc="-1" strike="noStrike">
              <a:solidFill>
                <a:srgbClr val="000000"/>
              </a:solidFill>
              <a:latin typeface="Alexon RR"/>
            </a:endParaRPr>
          </a:p>
          <a:p>
            <a:pPr marL="457200" indent="-45720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Undang – undang tentang guru dan dosen Nomor 14 tahun 2005.</a:t>
            </a:r>
            <a:endParaRPr b="0" lang="en-US" sz="2800" spc="-1" strike="noStrike">
              <a:solidFill>
                <a:srgbClr val="000000"/>
              </a:solidFill>
              <a:latin typeface="Alexon RR"/>
            </a:endParaRPr>
          </a:p>
          <a:p>
            <a:pPr marL="457200" indent="-45720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Peraturan Menteri Pendidikan dan Kebudayaan Nomor 61 tahun 2014 tentang kurikulum satuian pendidikan pada pendidikan dasar dan menengah.</a:t>
            </a:r>
            <a:endParaRPr b="0" lang="en-US" sz="2800" spc="-1" strike="noStrike">
              <a:solidFill>
                <a:srgbClr val="000000"/>
              </a:solidFill>
              <a:latin typeface="Alexon RR"/>
            </a:endParaRPr>
          </a:p>
          <a:p>
            <a:pPr marL="457200" indent="-45720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Peraturan menteri pendidikan dan kebudayaan nomor 103 tahun 2014 tentang pembelajaran pada pendidikan dasar dan menengah.</a:t>
            </a:r>
            <a:endParaRPr b="0" lang="en-US" sz="2800" spc="-1" strike="noStrike">
              <a:solidFill>
                <a:srgbClr val="000000"/>
              </a:solidFill>
              <a:latin typeface="Alexon RR"/>
            </a:endParaRPr>
          </a:p>
          <a:p>
            <a:pPr marL="457200" indent="-45720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66680" y="112320"/>
            <a:ext cx="11831760" cy="104292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lexon RR"/>
              </a:rPr>
              <a:t>TUJUAN RENCANA PENGEMBANGAN KURIKULUM PESANTREN DIGITAL MUHAMMADIYAH AT TANWIR </a:t>
            </a:r>
            <a:endParaRPr b="0" lang="en-US" sz="3200" spc="-1" strike="noStrike">
              <a:solidFill>
                <a:srgbClr val="000000"/>
              </a:solidFill>
              <a:latin typeface="Alexon RR"/>
            </a:endParaRPr>
          </a:p>
        </p:txBody>
      </p:sp>
      <p:sp>
        <p:nvSpPr>
          <p:cNvPr id="844" name=""/>
          <p:cNvSpPr txBox="1"/>
          <p:nvPr/>
        </p:nvSpPr>
        <p:spPr>
          <a:xfrm>
            <a:off x="166680" y="1450440"/>
            <a:ext cx="11831760" cy="4876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UNTUK MENDESKRIPSIKAN KONDISI KURIKULUM PENDIDIKAN ISLAM  DI PESANTREN DIGITAL MUHAMMADIYAH AT TANWIR SAAT INI.</a:t>
            </a:r>
            <a:endParaRPr b="0" lang="en-US" sz="2800" spc="-1" strike="noStrike">
              <a:solidFill>
                <a:srgbClr val="000000"/>
              </a:solidFill>
              <a:latin typeface="Alexon RR"/>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UNTUK MERENCANAKAN PENGEMBANGAN KURIKULUM PENDIDIKAN ISLAM YANG SESUAI DENGAN VISI, MISI, TUJUAN , DAN KARAKTERISTIK PESANTREN DIGITAL MUHAMMADIYAH AT TANWIR.</a:t>
            </a:r>
            <a:endParaRPr b="0" lang="en-US" sz="28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66680" y="112320"/>
            <a:ext cx="11831760" cy="104292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lexon RR"/>
              </a:rPr>
              <a:t>ANALISIS KONDISI PENDIDIKAN SAAT INI</a:t>
            </a:r>
            <a:endParaRPr b="0" lang="en-US" sz="4400" spc="-1" strike="noStrike">
              <a:solidFill>
                <a:srgbClr val="000000"/>
              </a:solidFill>
              <a:latin typeface="Alexon RR"/>
            </a:endParaRPr>
          </a:p>
        </p:txBody>
      </p:sp>
      <p:sp>
        <p:nvSpPr>
          <p:cNvPr id="846" name=""/>
          <p:cNvSpPr txBox="1"/>
          <p:nvPr/>
        </p:nvSpPr>
        <p:spPr>
          <a:xfrm>
            <a:off x="166680" y="1614600"/>
            <a:ext cx="11831760" cy="3628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STRUKTUR KURIKULUM :</a:t>
            </a:r>
            <a:endParaRPr b="0" lang="en-US" sz="2800" spc="-1" strike="noStrike">
              <a:solidFill>
                <a:srgbClr val="000000"/>
              </a:solidFill>
              <a:latin typeface="Alexon RR"/>
            </a:endParaRPr>
          </a:p>
          <a:p>
            <a:pPr lvl="4" marL="819000" indent="-457200">
              <a:lnSpc>
                <a:spcPct val="90000"/>
              </a:lnSpc>
              <a:spcBef>
                <a:spcPts val="499"/>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lexon RR"/>
              </a:rPr>
              <a:t>Mapel Umum mengikuti standart kurikulum yang di gunakan di SMP/MTs, SMA/MA/ Sederajat.</a:t>
            </a:r>
            <a:endParaRPr b="0" lang="en-US" sz="2400" spc="-1" strike="noStrike">
              <a:solidFill>
                <a:srgbClr val="000000"/>
              </a:solidFill>
              <a:latin typeface="Alexon RR"/>
            </a:endParaRPr>
          </a:p>
          <a:p>
            <a:pPr lvl="4" marL="819000" indent="-457200">
              <a:lnSpc>
                <a:spcPct val="90000"/>
              </a:lnSpc>
              <a:spcBef>
                <a:spcPts val="499"/>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lexon RR"/>
              </a:rPr>
              <a:t>Utk B. Arab dan B. Inggris di gunakan dalam kegiatan pesantren sehari2.</a:t>
            </a:r>
            <a:endParaRPr b="0" lang="en-US" sz="2400" spc="-1" strike="noStrike">
              <a:solidFill>
                <a:srgbClr val="000000"/>
              </a:solidFill>
              <a:latin typeface="Alexon RR"/>
            </a:endParaRPr>
          </a:p>
          <a:p>
            <a:pPr lvl="4" marL="819000" indent="-457200">
              <a:lnSpc>
                <a:spcPct val="90000"/>
              </a:lnSpc>
              <a:spcBef>
                <a:spcPts val="499"/>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lexon RR"/>
              </a:rPr>
              <a:t>Kewirausahaan diterapkan dengan pola yang tdk terstruktur spt halnya pembelajaran tahfidhul qur’an yang memiliki struktur pembelajaran tersendiri.</a:t>
            </a:r>
            <a:endParaRPr b="0" lang="en-US" sz="2400" spc="-1" strike="noStrike">
              <a:solidFill>
                <a:srgbClr val="000000"/>
              </a:solidFill>
              <a:latin typeface="Alexon RR"/>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66680" y="112320"/>
            <a:ext cx="11831760" cy="1042920"/>
          </a:xfrm>
          <a:prstGeom prst="rect">
            <a:avLst/>
          </a:prstGeom>
          <a:solidFill>
            <a:srgbClr val="1b4685"/>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Alexon RR"/>
            </a:endParaRPr>
          </a:p>
        </p:txBody>
      </p:sp>
      <p:sp>
        <p:nvSpPr>
          <p:cNvPr id="848" name=""/>
          <p:cNvSpPr txBox="1"/>
          <p:nvPr/>
        </p:nvSpPr>
        <p:spPr>
          <a:xfrm>
            <a:off x="166680" y="1238040"/>
            <a:ext cx="11831760" cy="5089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BEBAN BELAJAR :</a:t>
            </a:r>
            <a:endParaRPr b="0" lang="en-US" sz="2800" spc="-1" strike="noStrike">
              <a:solidFill>
                <a:srgbClr val="000000"/>
              </a:solidFill>
              <a:latin typeface="Alexon RR"/>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lexon RR"/>
              </a:rPr>
              <a:t>Beban belajar juga dipadukan sesuai dengan jumlah jam pembelajaran pesantren yang memang lebih banyak dari pada sekolah pada umumnya , karena santri mukim di pesantren selama 24 jam per harinya.</a:t>
            </a:r>
            <a:endParaRPr b="0" lang="en-US" sz="2400" spc="-1" strike="noStrike">
              <a:solidFill>
                <a:srgbClr val="000000"/>
              </a:solidFill>
              <a:latin typeface="Alexon RR"/>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66680" y="112320"/>
            <a:ext cx="11831760" cy="104292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lexon RR"/>
              </a:rPr>
              <a:t>STRATEGI PELAKSANAAN MASA DEPAN</a:t>
            </a:r>
            <a:endParaRPr b="0" lang="en-US" sz="4400" spc="-1" strike="noStrike">
              <a:solidFill>
                <a:srgbClr val="000000"/>
              </a:solidFill>
              <a:latin typeface="Alexon RR"/>
            </a:endParaRPr>
          </a:p>
        </p:txBody>
      </p:sp>
      <p:sp>
        <p:nvSpPr>
          <p:cNvPr id="850" name=""/>
          <p:cNvSpPr txBox="1"/>
          <p:nvPr/>
        </p:nvSpPr>
        <p:spPr>
          <a:xfrm>
            <a:off x="166680" y="1238040"/>
            <a:ext cx="11831760" cy="5089320"/>
          </a:xfrm>
          <a:prstGeom prst="rect">
            <a:avLst/>
          </a:prstGeom>
          <a:noFill/>
          <a:ln w="0">
            <a:noFill/>
          </a:ln>
        </p:spPr>
        <p:txBody>
          <a:bodyPr anchor="t">
            <a:normAutofit/>
          </a:bodyPr>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PENYUSUNAN KURIKULUM DIGITAL</a:t>
            </a:r>
            <a:endParaRPr b="0" lang="en-US" sz="2800" spc="-1" strike="noStrike">
              <a:solidFill>
                <a:srgbClr val="000000"/>
              </a:solidFill>
              <a:latin typeface="Alexon RR"/>
            </a:endParaRPr>
          </a:p>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PEMBINAAN GURU / ASATIDZ</a:t>
            </a:r>
            <a:endParaRPr b="0" lang="en-US" sz="2800" spc="-1" strike="noStrike">
              <a:solidFill>
                <a:srgbClr val="000000"/>
              </a:solidFill>
              <a:latin typeface="Alexon RR"/>
            </a:endParaRPr>
          </a:p>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AKTIFITAS KURIKULER</a:t>
            </a:r>
            <a:endParaRPr b="0" lang="en-US" sz="2800" spc="-1" strike="noStrike">
              <a:solidFill>
                <a:srgbClr val="000000"/>
              </a:solidFill>
              <a:latin typeface="Alexon RR"/>
            </a:endParaRPr>
          </a:p>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EVALUASI DAN PEMANTAUAN RUTIN</a:t>
            </a:r>
            <a:endParaRPr b="0" lang="en-US" sz="2800" spc="-1" strike="noStrike">
              <a:solidFill>
                <a:srgbClr val="000000"/>
              </a:solidFill>
              <a:latin typeface="Alexon RR"/>
            </a:endParaRPr>
          </a:p>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MEMBANGUN BUDAYA SEKOLAH YANG POSITIF.</a:t>
            </a:r>
            <a:endParaRPr b="0" lang="en-US" sz="28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295280" y="344520"/>
            <a:ext cx="9601200" cy="118584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lexon RR"/>
              </a:rPr>
              <a:t>HASIL PERENCANAAN KURIKULUM PESANTREN DIGITAL MUHAMMADIYAH  AT TANWIR</a:t>
            </a:r>
            <a:endParaRPr b="0" lang="en-US" sz="3500" spc="-1" strike="noStrike">
              <a:solidFill>
                <a:srgbClr val="000000"/>
              </a:solidFill>
              <a:latin typeface="Alexon RR"/>
            </a:endParaRPr>
          </a:p>
        </p:txBody>
      </p:sp>
      <p:sp>
        <p:nvSpPr>
          <p:cNvPr id="852" name=""/>
          <p:cNvSpPr txBox="1"/>
          <p:nvPr/>
        </p:nvSpPr>
        <p:spPr>
          <a:xfrm>
            <a:off x="166680" y="2844360"/>
            <a:ext cx="7004160" cy="3483000"/>
          </a:xfrm>
          <a:prstGeom prst="rect">
            <a:avLst/>
          </a:prstGeom>
          <a:noFill/>
          <a:ln w="0">
            <a:noFill/>
          </a:ln>
        </p:spPr>
        <p:txBody>
          <a:bodyPr anchor="t">
            <a:normAutofit fontScale="9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lexon RR"/>
              </a:rPr>
              <a:t>Prosentase Struktur Kurikulum  </a:t>
            </a:r>
            <a:r>
              <a:rPr b="0" lang="en-GB" sz="2800" spc="-1" strike="noStrike">
                <a:solidFill>
                  <a:srgbClr val="000000"/>
                </a:solidFill>
                <a:latin typeface="Alexon RR"/>
              </a:rPr>
              <a:t>:</a:t>
            </a:r>
            <a:endParaRPr b="0" lang="en-US" sz="2800" spc="-1" strike="noStrike">
              <a:solidFill>
                <a:srgbClr val="000000"/>
              </a:solidFill>
              <a:latin typeface="Alexon RR"/>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35 % pembelajaran Al Qur an</a:t>
            </a:r>
            <a:endParaRPr b="0" lang="en-US" sz="2800" spc="-1" strike="noStrike">
              <a:solidFill>
                <a:srgbClr val="000000"/>
              </a:solidFill>
              <a:latin typeface="Alexon RR"/>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30 % pembelajaran B. Arab.</a:t>
            </a:r>
            <a:endParaRPr b="0" lang="en-US" sz="2800" spc="-1" strike="noStrike">
              <a:solidFill>
                <a:srgbClr val="000000"/>
              </a:solidFill>
              <a:latin typeface="Alexon RR"/>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15 % pembelajaran dari dinas pendidikan.</a:t>
            </a:r>
            <a:endParaRPr b="0" lang="en-US" sz="2800" spc="-1" strike="noStrike">
              <a:solidFill>
                <a:srgbClr val="000000"/>
              </a:solidFill>
              <a:latin typeface="Alexon RR"/>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10 % untuk pembelajaran skill</a:t>
            </a:r>
            <a:endParaRPr b="0" lang="en-US" sz="2800" spc="-1" strike="noStrike">
              <a:solidFill>
                <a:srgbClr val="000000"/>
              </a:solidFill>
              <a:latin typeface="Alexon RR"/>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10 % untuk pembelajaran ekstra kurikuleer</a:t>
            </a:r>
            <a:endParaRPr b="0" lang="en-US" sz="2800" spc="-1" strike="noStrike">
              <a:solidFill>
                <a:srgbClr val="000000"/>
              </a:solidFill>
              <a:latin typeface="Alexon RR"/>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pic>
        <p:nvPicPr>
          <p:cNvPr id="853" name="Picture 3" descr=""/>
          <p:cNvPicPr/>
          <p:nvPr/>
        </p:nvPicPr>
        <p:blipFill>
          <a:blip r:embed="rId1"/>
          <a:srcRect l="0" t="10391" r="0" b="0"/>
          <a:stretch/>
        </p:blipFill>
        <p:spPr>
          <a:xfrm>
            <a:off x="6859440" y="1755720"/>
            <a:ext cx="5166000" cy="406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166680" y="112320"/>
            <a:ext cx="11831760" cy="1042920"/>
          </a:xfrm>
          <a:prstGeom prst="rect">
            <a:avLst/>
          </a:prstGeom>
          <a:solidFill>
            <a:srgbClr val="1b4685"/>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Alexon RR"/>
            </a:endParaRPr>
          </a:p>
        </p:txBody>
      </p:sp>
      <p:sp>
        <p:nvSpPr>
          <p:cNvPr id="855" name=""/>
          <p:cNvSpPr txBox="1"/>
          <p:nvPr/>
        </p:nvSpPr>
        <p:spPr>
          <a:xfrm>
            <a:off x="166680" y="1238040"/>
            <a:ext cx="11831760" cy="5089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lexon RR"/>
              </a:rPr>
              <a:t>2. STRUKTUR KURIKULUM</a:t>
            </a:r>
            <a:r>
              <a:rPr b="0" lang="en-GB" sz="2800" spc="-1" strike="noStrike">
                <a:solidFill>
                  <a:srgbClr val="000000"/>
                </a:solidFill>
                <a:latin typeface="Alexon RR"/>
              </a:rPr>
              <a:t>.</a:t>
            </a:r>
            <a:endParaRPr b="0" lang="en-US" sz="2800" spc="-1" strike="noStrike">
              <a:solidFill>
                <a:srgbClr val="000000"/>
              </a:solidFill>
              <a:latin typeface="Alexon RR"/>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pic>
        <p:nvPicPr>
          <p:cNvPr id="856" name="Picture 3" descr=""/>
          <p:cNvPicPr/>
          <p:nvPr/>
        </p:nvPicPr>
        <p:blipFill>
          <a:blip r:embed="rId1"/>
          <a:srcRect l="4665" t="0" r="4999" b="11670"/>
          <a:stretch/>
        </p:blipFill>
        <p:spPr>
          <a:xfrm>
            <a:off x="5616720" y="1238400"/>
            <a:ext cx="5575320" cy="508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1-01T12:44:14Z</dcterms:created>
  <dc:creator>User</dc:creator>
  <dc:description/>
  <dc:language>en-US</dc:language>
  <cp:lastModifiedBy>rizal.y</cp:lastModifiedBy>
  <dcterms:modified xsi:type="dcterms:W3CDTF">2024-08-05T04:55:12Z</dcterms:modified>
  <cp:revision>33</cp:revision>
  <dc:subject/>
  <dc:title>RENCANA PENGEMBANGAN KURIKULUM PESANTREN DIGITAL MUHAMMADIYAH AT-TANWIR KAB. PASURUAN</dc:title>
</cp:coreProperties>
</file>